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BC60-FDF4-4572-B63F-6615FDBC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A029-2A55-4E8C-B6A7-BA27AC13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7BE6-D6EE-4183-8111-6E098B07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4F22-7F12-418B-B69A-A93C6CEE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C3E5-D201-49D9-B272-EAF5AB7E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81B3-A614-4E16-AFA7-016C26FA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2EB8-E252-4BF7-A688-6F542C43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F643-14AC-4E50-BC22-D78EA462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3695-01C4-448D-89CB-6B1FB158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6738-BD37-4C08-B0D4-63F04D46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252B-0CF5-4D03-8245-6A33BA9F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3B1D-38D9-436C-9A78-BECE6B1D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0CF3-4721-495A-A7F3-DBED8FCB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4D85-9787-4104-8B76-22177D9A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CBFE-742A-4D75-AE04-EDD79D8E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240F-946E-4A75-A709-BCB31A49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4D2D-F03B-4D95-A361-F8AEA35F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FEA7-42C1-4886-9454-67EA4F9E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E56-CB45-4ED9-BEE4-EE89A85D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82E9-B88F-42F8-9B61-930A837F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9F04-4E9A-4654-B073-EEF2AE22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C6A9-3172-426B-A093-3921F836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E1D8-8A8A-4F0A-BF44-55D18D78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9CF8-F560-4580-886A-BDD4C714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3F38-4870-4DFE-A0F6-60F1A4E19D0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2E4C-441B-4F1A-A6E1-093E43F8329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Unit One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Theoretical Assumptions in the Classroom</a:t>
            </a: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HHS 4M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Ms. Dana Dray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oretical Assump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676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basic theoretical assumptions of the following theories would explain what happens in a classroom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843280" y="3936960"/>
          <a:ext cx="2543040" cy="18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936960"/>
                    <a:ext cx="254304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Functionalis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0384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855b"/>
                </a:solidFill>
                <a:latin typeface="Verdana"/>
              </a:rPr>
              <a:t>Assumptions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Explains how society is to perform its required functions effectively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The family is an institution within society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Individuals within society have </a:t>
            </a:r>
            <a:r>
              <a:rPr b="1" lang="en-US" sz="2000" spc="-1" strike="noStrike">
                <a:solidFill>
                  <a:srgbClr val="5e855b"/>
                </a:solidFill>
                <a:latin typeface="Arial Narrow"/>
              </a:rPr>
              <a:t>roles</a:t>
            </a: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 to play, each role has to play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The most prevalent behaviours are called </a:t>
            </a:r>
            <a:r>
              <a:rPr b="1" lang="en-US" sz="2000" spc="-1" strike="noStrike">
                <a:solidFill>
                  <a:srgbClr val="5e855b"/>
                </a:solidFill>
                <a:latin typeface="Arial Narrow"/>
              </a:rPr>
              <a:t>“norms”</a:t>
            </a: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Change can occur if the structures within society can adjust to maintain an equilibrium, but this usually happens slowl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773360"/>
            <a:ext cx="403848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855b"/>
                </a:solidFill>
                <a:latin typeface="Arial Narrow"/>
              </a:rPr>
              <a:t>Education</a:t>
            </a: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The rules within the classroom give it structure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Teachers have a higher </a:t>
            </a:r>
            <a:r>
              <a:rPr b="1" lang="en-US" sz="2000" spc="-1" strike="noStrike">
                <a:solidFill>
                  <a:srgbClr val="5e855b"/>
                </a:solidFill>
                <a:latin typeface="Arial Narrow"/>
              </a:rPr>
              <a:t>status </a:t>
            </a: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than students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Teachers and students each have their own roles to perform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There are norms or expected behaviours within the classroom for teachers and studen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659640" y="0"/>
          <a:ext cx="2209680" cy="20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0"/>
                    <a:ext cx="2209680" cy="20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ystems Theor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0384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855b"/>
                </a:solidFill>
                <a:latin typeface="Verdana"/>
              </a:rPr>
              <a:t>Assumptions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ttempts to explains how groups of individuals interact as a system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There are subsystems within  the system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 change with one member of the system affect all others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844640"/>
            <a:ext cx="40384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855b"/>
                </a:solidFill>
                <a:latin typeface="Verdana"/>
              </a:rPr>
              <a:t>Educatio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The classroom is a system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The teacher’s behaviour affects the behaviour, &amp; vice versa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roviding feedback is importa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093080" y="333360"/>
          <a:ext cx="146664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3080" y="333360"/>
                    <a:ext cx="14666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cc"/>
                </a:solidFill>
                <a:latin typeface="Arial"/>
              </a:rPr>
              <a:t>Symbolic </a:t>
            </a:r>
            <a:br>
              <a:rPr sz="4000"/>
            </a:br>
            <a:r>
              <a:rPr b="1" lang="en-CA" sz="4000" spc="-1" strike="noStrike">
                <a:solidFill>
                  <a:srgbClr val="ffffcc"/>
                </a:solidFill>
                <a:latin typeface="Arial"/>
              </a:rPr>
              <a:t>Interactionis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40384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855b"/>
                </a:solidFill>
                <a:latin typeface="Verdana"/>
              </a:rPr>
              <a:t>Assumption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Explains how individuals choose how they will act based on their perceptions of themselves and of other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People need to give meaning to their experiences before they act on them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Individuals communicating with one another, but they may give different meanings to actions and words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915920"/>
            <a:ext cx="403848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855b"/>
                </a:solidFill>
                <a:latin typeface="Verdana"/>
              </a:rPr>
              <a:t>Educatio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Teachers &amp; students each have their own perceptions of what it means to be a teacher and a student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How a teacher or student responds to a specific situation will depend on how each interprets the situatio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Teachers &amp; students may give different meanings to actions &amp; words &amp; this may cause problems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659640" y="260280"/>
          <a:ext cx="205740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260280"/>
                    <a:ext cx="205740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Social Exchange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heor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40384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855b"/>
                </a:solidFill>
                <a:latin typeface="Verdana"/>
              </a:rPr>
              <a:t>Assumptions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Explains the social factors that influence how individuals interact within relationships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Within their roles, individuals act to maximize the </a:t>
            </a:r>
            <a:r>
              <a:rPr b="1" lang="en-US" sz="2000" spc="-1" strike="noStrike">
                <a:solidFill>
                  <a:srgbClr val="5e855b"/>
                </a:solidFill>
                <a:latin typeface="Verdana"/>
              </a:rPr>
              <a:t>benefits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 they receive and minimize the </a:t>
            </a:r>
            <a:r>
              <a:rPr b="1" lang="en-US" sz="2000" spc="-1" strike="noStrike">
                <a:solidFill>
                  <a:srgbClr val="5e855b"/>
                </a:solidFill>
                <a:latin typeface="Verdana"/>
              </a:rPr>
              <a:t>cost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 to themselves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Benefits to and costs of relationships are based on individuals’ perceptions not on facts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2060640"/>
            <a:ext cx="403848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855b"/>
                </a:solidFill>
                <a:latin typeface="Verdana"/>
              </a:rPr>
              <a:t>Education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When choosing to complete class assignments, students weigh the costs ( e.g. less time to talk to friends) and the benefits (e.g. a good mark)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020000" y="549360"/>
          <a:ext cx="1655640" cy="13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20000" y="549360"/>
                    <a:ext cx="165564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onflict Theor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0384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855b"/>
                </a:solidFill>
                <a:latin typeface="Verdana"/>
              </a:rPr>
              <a:t>Assumption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Explains how power holds a society together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States that conflict exists between groups because of </a:t>
            </a:r>
            <a:r>
              <a:rPr b="1" lang="en-US" sz="2400" spc="-1" strike="noStrike">
                <a:solidFill>
                  <a:srgbClr val="5e855b"/>
                </a:solidFill>
                <a:latin typeface="Arial Narrow"/>
              </a:rPr>
              <a:t>inequalities in power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ssumes groups compete with one another to meet their needs, but the needs of all groups cannot be met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915920"/>
            <a:ext cx="403848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855b"/>
                </a:solidFill>
                <a:latin typeface="Verdana"/>
              </a:rPr>
              <a:t>Educatio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Can result in the exploitation of those with less power by those with greater power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Within a school or classroom, there is a power imbalance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In a classroom where students have more power or control than the teacher, the class will not function effectively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164360" y="476280"/>
          <a:ext cx="151128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4360" y="476280"/>
                    <a:ext cx="15112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Feminist Theories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e855b"/>
                </a:solidFill>
                <a:latin typeface="Verdana"/>
              </a:rPr>
              <a:t>Assumptions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Explain the impact of sex and gender on behaviour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Consider issues from the viewpoint of wome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Examine gender bia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Believe change is required to meet the needs of all people</a:t>
            </a: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855b"/>
                </a:solidFill>
                <a:latin typeface="Verdana"/>
              </a:rPr>
              <a:t>Education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Within schools, teachers can apply knowledge of recent on how males and females learn differently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3:41:20Z</dcterms:created>
  <dc:creator>dino</dc:creator>
  <dc:description/>
  <dc:language>en-US</dc:language>
  <cp:lastModifiedBy>OCDSB User</cp:lastModifiedBy>
  <dcterms:modified xsi:type="dcterms:W3CDTF">2011-02-09T16:26:13Z</dcterms:modified>
  <cp:revision>5</cp:revision>
  <dc:subject/>
  <dc:title>Unit One Theoretical Assumptions in the Classroom  </dc:title>
</cp:coreProperties>
</file>